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B650-F306-482B-8A22-5F2A10CD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 of participants and overview of the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the person besid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A85-2A87-4041-BA41-B34C97F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A94-91B5-4B1B-871D-52E9574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1E2-C25B-4ECF-97D9-FC9C497E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45A-927D-483D-852E-74D3489D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90F-D620-413F-9C02-EB91D923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923-B71A-4A6F-A894-59DA2A86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2A4-0DF7-426D-BEB0-44F8F2D4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83E-8D98-422F-AB22-2340C781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5EF-285F-4D16-B6AF-513CA68F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D32-DC3B-40AB-BBFA-3C76835D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D5C-86C4-465C-9551-71CC93B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19D-34B2-4523-AECB-2910B0A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992B-0D7A-4008-AAFA-766648AD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All%20Users/Desktop/iTunes.lnk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transportation%20-%20vocabulary.wmv" TargetMode="External"/><Relationship Id="rId3" Type="http://schemas.openxmlformats.org/officeDocument/2006/relationships/hyperlink" Target="file:///resources%20for%20the%20ipod/Parts%20of%20SpeechiPodMovie.m4v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myschool.wmv" TargetMode="External"/><Relationship Id="rId3" Type="http://schemas.openxmlformats.org/officeDocument/2006/relationships/hyperlink" Target="file:///resources%20for%20the%20ipod/Your%205%20Super%20Senses_5thGrade.mp4" TargetMode="External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mangum@wcpss.net" TargetMode="External"/><Relationship Id="rId3" Type="http://schemas.openxmlformats.org/officeDocument/2006/relationships/hyperlink" Target="mailto:ipods4classrooms@wikispaces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du.edu/educ/roverbau/bloom/blooms_taxonomy.ht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Pods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aching and learning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nect, Communicate and Create</a:t>
            </a:r>
            <a:br>
              <a:rPr sz="4000"/>
            </a:br>
            <a:br>
              <a:rPr sz="6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ncy Mangu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 2009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view listening activities in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220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Pods can help our ESL students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8120" y="3047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re are lots of resources on the web for using iPods with our ESL 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ods4classroom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en you find resources on the web you must first convert them to the mp4 format so they can be converted onto the iPod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lso created some of 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– vocabul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tory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ocabulary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tasia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nglish Success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are also crea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for the ip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iv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ime upfront with the teachers to focus on curriculum ideas to incorporate the iPods on a daily basis and creating alternative assess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o not keep any cords, they have to upload and charge at school.  This prevents them from recording music on the iP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ne-to-one computer access for syncing i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rav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munication needed up-front with parents and students about the ownership responsibility for th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d carrying cases for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mangum@wcpss.net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ods4classrooms.wikispaces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Pods in the ESL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nnect</a:t>
            </a:r>
            <a:br>
              <a:rPr sz="54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udents to their learning and motivat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re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er order thinking skills for our stud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mmunic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ive students a vo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are we using iP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 our classroo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5911920"/>
            <a:ext cx="91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listen and watch lessons that focus on English language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61084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91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isten to and follow along with written text to reinforce writte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22032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5791320"/>
            <a:ext cx="734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cord their voices  to work on oral languag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45:32Z</dcterms:created>
  <dc:creator>nancy_mangum</dc:creator>
  <dc:description/>
  <dc:language>en-US</dc:language>
  <cp:lastModifiedBy>nancy_mangum</cp:lastModifiedBy>
  <dcterms:modified xsi:type="dcterms:W3CDTF">2009-03-05T03:03:25Z</dcterms:modified>
  <cp:revision>17</cp:revision>
  <dc:subject/>
  <dc:title>   iPods for  teaching and learning   Connect, Communicate and Create  Nancy Mangum &amp; Larry Savage December 5, 2008   </dc:title>
</cp:coreProperties>
</file>